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CF9-FCB1-4F5B-BFD6-4C4CF465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566-FAEA-400F-AE4A-49BCA8DE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D27-2B1F-4F28-9E24-54138E0C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D58-1AB6-41E8-AEDF-FB3B16DC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D744-E09D-4BC2-BBED-B618900E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9A23-4B0E-4269-A7AB-E86265B5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AFFA-2711-4E74-9BF4-C51B1FE1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CEEA-D341-488B-AC8D-20671EDF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31B7-2046-4DDC-859A-236DAD7F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9BD7-1B69-412D-B97F-94ED8ABA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B820-37AC-417F-BC05-B4469516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EE8-A04B-4680-A9A0-8938794A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EF24-2D42-46FD-A278-AC5DCF1D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8B05-3C14-4501-A0DB-B5B7F88D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7FB1-F95B-4DAA-AE94-2ABD0EFE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CA80-D846-4933-BB2C-5CFEF25C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EB77-55F8-4528-AEAD-028EAEFB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D28C-2F85-4329-9493-9C7ED77F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18F0-6464-4395-839A-C303C764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6C3-32C4-4DF4-89AF-C5903FA3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00C-8F8D-417A-A8B9-6A0BDD29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7E1D-2F18-4841-B8EB-8FB4DCBE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FC6-D1E4-4A0D-A737-D36A5686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B4C-84F8-492A-8315-C63AAD15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9C41-B62E-4283-AFFB-4DD81538212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5BFE-ABA6-4EF3-829B-D73481E6445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47640" y="1125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oper Black"/>
              </a:rPr>
              <a:t>French Network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9th March 20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381400" y="2557440"/>
            <a:ext cx="4381200" cy="1743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8265960" cy="43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6" name=""/>
          <p:cNvSpPr/>
          <p:nvPr/>
        </p:nvSpPr>
        <p:spPr>
          <a:xfrm flipV="1">
            <a:off x="6588000" y="1268280"/>
            <a:ext cx="79236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2087280" cy="1417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2103120" cy="3889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059280" y="476280"/>
            <a:ext cx="2330280" cy="2951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580000" y="549360"/>
            <a:ext cx="2092320" cy="3160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2736720" cy="1035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7969320" cy="704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flipH="1">
            <a:off x="2987280" y="1052640"/>
            <a:ext cx="1297080" cy="21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284360" y="2492280"/>
            <a:ext cx="129708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5184720" cy="3975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H="1" flipV="1">
            <a:off x="6012000" y="2565360"/>
            <a:ext cx="129672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16000" y="923400"/>
            <a:ext cx="82436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More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AU" sz="2800" spc="-1" strike="noStrike">
                <a:solidFill>
                  <a:srgbClr val="000000"/>
                </a:solidFill>
                <a:latin typeface="Comic Sans MS"/>
              </a:rPr>
              <a:t>Embedding, Inserting &amp; Linking on Wikispaces”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http://www.slideshare.net/technolote/embedding-inserting-and-linking-on-wiki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627280" y="3073320"/>
            <a:ext cx="4051440" cy="3784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348000" y="2441520"/>
            <a:ext cx="4338720" cy="396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26080" y="859680"/>
            <a:ext cx="80247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More Wikispaces Features – Tab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http://www.slideshare.net/technolote/more-wikispaces-features-the-t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69228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very French teacher in AC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hares just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1 resource a mon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e would have about 40 new resources a month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many a year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360360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n’t see it as a waste of time but as 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good way to save tim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find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new ideas and new resourc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-603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0000"/>
                </a:solidFill>
                <a:latin typeface="Comic Sans MS"/>
              </a:rPr>
              <a:t>Other opportuniti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xtra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Primary workshop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with Myri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French Teachers’ Professional Tr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(2 days early September) with the Embass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Conferenc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at the university of Sydne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The French language and French-speaking diversity in the Asia-Pacific region”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2-6 Decemb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You can still join the NAF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-675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omic Sans MS"/>
              </a:rPr>
              <a:t>Questions &amp; Answer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89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On the Alliance Françai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On the French Net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ny suggestions, comments, feedbac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What you need, expect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MERCI !!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559640" cy="3384360"/>
          </a:xfrm>
          <a:prstGeom prst="rect">
            <a:avLst/>
          </a:prstGeom>
          <a:noFill/>
          <a:ln w="57240">
            <a:solidFill>
              <a:srgbClr val="703d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703dff"/>
                </a:solidFill>
                <a:latin typeface="Monotype Corsiva"/>
              </a:rPr>
              <a:t>Ludivine Le-Ga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rench teacher - Telopea Park Sch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rench Network Lea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620 5558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</a:t>
            </a: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ludivine.legal@ed.act.edu.a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41040" y="-259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Bienvenue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21477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ring workshops (important dat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ring resources online (wikispac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 opportuni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-38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haring workshop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omic Sans MS"/>
              </a:rPr>
              <a:t>Primary teache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nday 31st Ma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Term 2 - week 6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nday 30th Augus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Term 3 - week 7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om 4pm to 6pm at the CTL in MR 3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0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omic Sans MS"/>
              </a:rPr>
              <a:t>Secondary teachers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ursday 10th Ju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Term 2- week 7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ursday 2nd Septemb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Term 3 - week 7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om 4.15pm to 6pm at the CTL in MR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84000" y="-38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haring workshop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01800" y="-8190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haring worksh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500720" cy="29941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00720" y="1735200"/>
            <a:ext cx="424800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Many compu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Bring you memory stick with resources to sha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Interactive whiteboards.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Smartboard and Prometh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Many ideas on how to use IWB to teach languages interactive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4522680"/>
            <a:ext cx="8280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Round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Bring any other resources you would like to sh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(Songs, worksheets, website addresses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6080" y="884160"/>
            <a:ext cx="18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CTL – MR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3156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enrol in these events please register on the following websi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DET Professional Learning Calenda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ttp://activated.act.edu.au/Calendar/Events.aspx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901800" y="-69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haring worksh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2040" y="1222200"/>
            <a:ext cx="5289120" cy="11912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Centre for Teaching an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51 Fremantle Dr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tir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1960" y="-675000"/>
            <a:ext cx="7232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haring ressources on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What’s a « wiki »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http://web2educatorsupport.wikispaces.com/What+is+a+wiki%3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Why?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or us to be able to share resources easily, quickly and regularly 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32200" y="189000"/>
            <a:ext cx="614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r French Network « wiki »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://frenchnetwork-act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327800" cy="37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210280" cy="3076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8265960" cy="43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3" name=""/>
          <p:cNvSpPr/>
          <p:nvPr/>
        </p:nvSpPr>
        <p:spPr>
          <a:xfrm flipV="1">
            <a:off x="6227640" y="1197000"/>
            <a:ext cx="79236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22:41:50Z</dcterms:created>
  <dc:creator> </dc:creator>
  <dc:description/>
  <dc:language>en-US</dc:language>
  <cp:lastModifiedBy>Ludivine Legal</cp:lastModifiedBy>
  <dcterms:modified xsi:type="dcterms:W3CDTF">2010-03-30T21:26:45Z</dcterms:modified>
  <cp:revision>9</cp:revision>
  <dc:subject/>
  <dc:title>French Network</dc:title>
</cp:coreProperties>
</file>